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BE6FCA7-A898-4990-965E-844EC2D29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2B53C9-A046-4DA5-957B-D803D176E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CE3E66-DD24-4059-ADDC-FAF6AB2B2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04BF13-9A8D-4CE7-8788-57AC0BFD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624FD5-9747-4177-A1D7-A34E0BD7F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47BE05-AA63-42EC-A9B8-35C1231E6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AD208F-B605-4DD1-9B46-4135D674E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C23C3C-6DA8-48A9-88DB-14566E788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BC990D5-F594-4DD6-854E-1E49C7CE1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30CDE10-A121-47AD-8CD3-ED419BB5E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BD523A-CE93-4B13-BE4C-13F202B09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C52F86-D255-4247-90F4-A413E3539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B9291C-DB00-4FFA-BC67-11B162946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7A8B72-0159-42CF-BE4F-41C0313A2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3D6981-2DA4-4C40-9B30-8C3A02891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644FE42-F773-4270-9B2D-AA8F7DAD1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1E51F5-5707-4D4A-895B-DA0882A09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F1591D-4F8B-4307-8FCE-3DF7FC6BE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E415B6-40BF-4676-9997-B25EAC192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9DA-41A4-4291-A243-EFA42F45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799-3103-4124-9682-0A9244B5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9C7-C351-4726-8C8E-8DF2FFDD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39E-FCD3-4646-B86C-D0526B48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007-FF43-402A-B382-548E5A9D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3E6-87E0-4592-9E43-1DAB38E4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0B6-6CFD-4451-9CA7-F9B2EE98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740-0E4D-4C73-AA0D-DE5EA386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BE0-9B21-4A27-878E-F6DC2A65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0EB-61B7-4787-8F46-C151A08D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006-F23C-42DE-8BFD-E0E8FFD9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624-213B-434B-B658-FB806C21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3813-E7C2-4B7A-872E-CFAD169FF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12193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e4c"/>
                </a:solidFill>
                <a:latin typeface="Tahoma"/>
                <a:ea typeface="SimSun"/>
              </a:rPr>
              <a:t>GDR in Drup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  <a:ea typeface="SimSun"/>
              </a:rPr>
              <a:t>facilitating community building and efficient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5" descr="WSU-logo.png"/>
          <p:cNvPicPr/>
          <p:nvPr/>
        </p:nvPicPr>
        <p:blipFill>
          <a:blip r:embed="rId1"/>
          <a:stretch/>
        </p:blipFill>
        <p:spPr>
          <a:xfrm>
            <a:off x="2819520" y="5010120"/>
            <a:ext cx="3481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Creating a new p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486480" cy="3336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600200" y="2971800"/>
            <a:ext cx="6276960" cy="3413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User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552600" y="1152360"/>
            <a:ext cx="7524720" cy="378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1943280" y="2660760"/>
            <a:ext cx="6514920" cy="3584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430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enomic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3520" y="14479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gene for family Rosaceae and for genus of malus, prunus, fragaria, pyrus and rosa 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EST annotation includes unigene set, homology, SSRs, ORF, SNPs, unique oligo sets for unigene micro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CBI/Swiss-Prot/TremBL Rosaceae protein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295280" y="5638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838080" y="44197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ing Soon – Whole Genome Sequence of Peach, Strawberry and Appl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981080" y="533520"/>
            <a:ext cx="373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enetic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09480" y="13716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us (marker loci and MT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1400 locus data available from marker/trait search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s and Genetic Diversit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9 Rosaceae genetic maps in C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sm/diversity search si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tically anchored peach physical and transcriptome 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bridization data between probes (ESTs and genetic markers) and peach BA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evant to Rosaceae genetics and genom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GDRonlylogo.png"/>
          <p:cNvPicPr/>
          <p:nvPr/>
        </p:nvPicPr>
        <p:blipFill>
          <a:blip r:embed="rId1"/>
          <a:stretch/>
        </p:blipFill>
        <p:spPr>
          <a:xfrm>
            <a:off x="7391520" y="57150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533520" y="228600"/>
            <a:ext cx="5867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Access the data from</a:t>
            </a:r>
            <a:r>
              <a:rPr b="1" lang="en-US" sz="40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2057400" y="23623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3581280" y="2362320"/>
            <a:ext cx="2210040" cy="838080"/>
          </a:xfrm>
          <a:prstGeom prst="line">
            <a:avLst/>
          </a:prstGeom>
          <a:ln w="28440">
            <a:solidFill>
              <a:srgbClr val="0e20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685800" y="25146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species page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5867280" y="29718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projects page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4419720" y="30481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or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53600" cy="434880"/>
          </a:xfrm>
          <a:prstGeom prst="rect">
            <a:avLst/>
          </a:prstGeom>
          <a:ln w="0">
            <a:noFill/>
          </a:ln>
        </p:spPr>
      </p:pic>
      <p:sp>
        <p:nvSpPr>
          <p:cNvPr id="132" name="Oval 13"/>
          <p:cNvSpPr/>
          <p:nvPr/>
        </p:nvSpPr>
        <p:spPr>
          <a:xfrm>
            <a:off x="1752480" y="1676520"/>
            <a:ext cx="914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2590920" y="1676520"/>
            <a:ext cx="838080" cy="6858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1876680" cy="150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1895760" cy="96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"/>
          <p:cNvPicPr/>
          <p:nvPr/>
        </p:nvPicPr>
        <p:blipFill>
          <a:blip r:embed="rId4"/>
          <a:stretch/>
        </p:blipFill>
        <p:spPr>
          <a:xfrm>
            <a:off x="6019920" y="3733920"/>
            <a:ext cx="1885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962520" y="30492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Or go directly t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H="1">
            <a:off x="1676520" y="1828800"/>
            <a:ext cx="2133360" cy="7621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3809880" y="1828800"/>
            <a:ext cx="609840" cy="1066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57200" y="228600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maps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2819520" y="28954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4" descr=""/>
          <p:cNvPicPr/>
          <p:nvPr/>
        </p:nvPicPr>
        <p:blipFill>
          <a:blip r:embed="rId1"/>
          <a:stretch/>
        </p:blipFill>
        <p:spPr>
          <a:xfrm>
            <a:off x="7543800" y="6095880"/>
            <a:ext cx="132408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Line 22"/>
          <p:cNvSpPr/>
          <p:nvPr/>
        </p:nvSpPr>
        <p:spPr>
          <a:xfrm>
            <a:off x="5181480" y="1752480"/>
            <a:ext cx="685800" cy="6858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5715000" y="23623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Tools </a:t>
            </a:r>
            <a:br>
              <a:rPr sz="2400"/>
            </a:b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to blast against</a:t>
            </a:r>
            <a:br>
              <a:rPr sz="2400"/>
            </a:b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or dow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2"/>
          <a:stretch/>
        </p:blipFill>
        <p:spPr>
          <a:xfrm>
            <a:off x="299880" y="2886120"/>
            <a:ext cx="2105280" cy="115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3"/>
          <a:stretch/>
        </p:blipFill>
        <p:spPr>
          <a:xfrm>
            <a:off x="2749680" y="3448080"/>
            <a:ext cx="2158920" cy="196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"/>
          <p:cNvPicPr/>
          <p:nvPr/>
        </p:nvPicPr>
        <p:blipFill>
          <a:blip r:embed="rId4"/>
          <a:stretch/>
        </p:blipFill>
        <p:spPr>
          <a:xfrm>
            <a:off x="5791320" y="3581280"/>
            <a:ext cx="2093760" cy="1943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5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62520" y="304920"/>
            <a:ext cx="373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00"/>
                </a:solidFill>
                <a:latin typeface="Tahoma"/>
              </a:rPr>
              <a:t>Ma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7543800" y="5867280"/>
            <a:ext cx="1324080" cy="552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553600" cy="434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3"/>
          <a:stretch/>
        </p:blipFill>
        <p:spPr>
          <a:xfrm>
            <a:off x="3429000" y="1828800"/>
            <a:ext cx="2103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5335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</a:rPr>
              <a:t>CMap (comparative map view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654680" cy="533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85800" y="533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</a:rPr>
              <a:t>Genetic, Physical, and Transcriptome 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5813640" cy="543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9" descr=""/>
          <p:cNvPicPr/>
          <p:nvPr/>
        </p:nvPicPr>
        <p:blipFill>
          <a:blip r:embed="rId2"/>
          <a:stretch/>
        </p:blipFill>
        <p:spPr>
          <a:xfrm>
            <a:off x="2743200" y="3657600"/>
            <a:ext cx="4476600" cy="297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Picture 11" descr=""/>
          <p:cNvPicPr/>
          <p:nvPr/>
        </p:nvPicPr>
        <p:blipFill>
          <a:blip r:embed="rId3"/>
          <a:stretch/>
        </p:blipFill>
        <p:spPr>
          <a:xfrm>
            <a:off x="4664160" y="3505320"/>
            <a:ext cx="447984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581280" y="609480"/>
            <a:ext cx="4191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search eng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323720" cy="552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2093760" cy="1943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09480" y="5335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e4c"/>
                </a:solidFill>
                <a:latin typeface="Tahoma"/>
              </a:rPr>
              <a:t>GDR (Genome Database for Rosacea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57200" y="1905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ngsuhChe"/>
              </a:rPr>
              <a:t>a web-based community database of Rosaceae genetics and genomics data and analysis tools facilitating utilization of the data among member spe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2734920" y="5334120"/>
            <a:ext cx="32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ww.rosacea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304920"/>
            <a:ext cx="9201240" cy="570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6324480" cy="39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8" descr=""/>
          <p:cNvPicPr/>
          <p:nvPr/>
        </p:nvPicPr>
        <p:blipFill>
          <a:blip r:embed="rId3"/>
          <a:stretch/>
        </p:blipFill>
        <p:spPr>
          <a:xfrm>
            <a:off x="3876840" y="1219320"/>
            <a:ext cx="526716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87480" y="228600"/>
            <a:ext cx="90565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7" name="Group 13"/>
          <p:cNvGrpSpPr/>
          <p:nvPr/>
        </p:nvGrpSpPr>
        <p:grpSpPr>
          <a:xfrm>
            <a:off x="2971800" y="685800"/>
            <a:ext cx="5790960" cy="5625720"/>
            <a:chOff x="2971800" y="685800"/>
            <a:chExt cx="5790960" cy="5625720"/>
          </a:xfrm>
        </p:grpSpPr>
        <p:pic>
          <p:nvPicPr>
            <p:cNvPr id="168" name="Picture 11" descr=""/>
            <p:cNvPicPr/>
            <p:nvPr/>
          </p:nvPicPr>
          <p:blipFill>
            <a:blip r:embed="rId2"/>
            <a:stretch/>
          </p:blipFill>
          <p:spPr>
            <a:xfrm>
              <a:off x="2971800" y="685800"/>
              <a:ext cx="5790960" cy="30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2" descr=""/>
            <p:cNvPicPr/>
            <p:nvPr/>
          </p:nvPicPr>
          <p:blipFill>
            <a:blip r:embed="rId3"/>
            <a:stretch/>
          </p:blipFill>
          <p:spPr>
            <a:xfrm>
              <a:off x="3049920" y="3742920"/>
              <a:ext cx="5529960" cy="256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7" descr=""/>
          <p:cNvPicPr/>
          <p:nvPr/>
        </p:nvPicPr>
        <p:blipFill>
          <a:blip r:embed="rId4"/>
          <a:stretch/>
        </p:blipFill>
        <p:spPr>
          <a:xfrm>
            <a:off x="2209680" y="2895480"/>
            <a:ext cx="4543560" cy="16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9182160" cy="422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465120" y="380880"/>
            <a:ext cx="867888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72880" y="452520"/>
            <a:ext cx="8599680" cy="595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2030400" y="3857760"/>
            <a:ext cx="71136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104240" cy="24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Picture 10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7104240" cy="43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4038480" y="3733920"/>
            <a:ext cx="4934160" cy="284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  <a:ea typeface="굴림"/>
              </a:rPr>
              <a:t>Rosaceae Community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467480" y="5791320"/>
            <a:ext cx="1324080" cy="55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20908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R Team – Dorrie Main, Sook Jung, Meg Staton, Randall Svancara, Taein Lee, Ping Zheng, Albert Abb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members: Anna Blenda, Stephen Ficklin, Christopher Jesudu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saceae Commun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F Plant Genom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DA Specialty Crop Research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520" y="6854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25146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isit u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t Database 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nday 8-8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 10-10:30 am, 4-4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er C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 10 -11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80880" y="1600200"/>
            <a:ext cx="8077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R N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ajor objectives for the next grant peri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structure using Chado/Drupal (Dem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ata/tools currently available from GD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access the data and tools (Dem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09480" y="1468440"/>
            <a:ext cx="769644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R receives funding from Sept 2009 to Aug 201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USDA Specialty Crop Research Initiative program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ree fruit Genome Database Resources (tfGDR) will expand GDR to include Citrus. 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le genome sequence of peach in GBrowse (will go public in Apr 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 and strawberry data to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GDR is implemented in Drup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site developed for RosBre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171880" y="60948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DR New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762120" y="654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Major goals for the next 4 yea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7200" y="1981080"/>
            <a:ext cx="81532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tegrat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ole genome sequ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arge-scale phenotyping/genotyping data, an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breeding dat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 current GDR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o develop an infrastructure using chado and drupal (tripal) that is easy to develop, implement and mainta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ffirm.net.au/images/puzzle-5-piece-small.jpg"/>
          <p:cNvPicPr/>
          <p:nvPr/>
        </p:nvPicPr>
        <p:blipFill>
          <a:blip r:embed="rId1"/>
          <a:stretch/>
        </p:blipFill>
        <p:spPr>
          <a:xfrm>
            <a:off x="457200" y="1063800"/>
            <a:ext cx="8086680" cy="5433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609480" y="1219320"/>
            <a:ext cx="2362320" cy="2361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57600" y="1447920"/>
            <a:ext cx="1676520" cy="60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352680" y="2819520"/>
            <a:ext cx="221004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962520" y="2057400"/>
            <a:ext cx="10666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876920" y="4648320"/>
            <a:ext cx="3504960" cy="1600200"/>
          </a:xfrm>
          <a:prstGeom prst="rect">
            <a:avLst/>
          </a:prstGeom>
          <a:solidFill>
            <a:srgbClr val="0046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172200" y="1600200"/>
            <a:ext cx="2133720" cy="1523880"/>
          </a:xfrm>
          <a:prstGeom prst="rect">
            <a:avLst/>
          </a:prstGeom>
          <a:solidFill>
            <a:srgbClr val="bf4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04920" y="1219320"/>
            <a:ext cx="28191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GENOM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ucleotide sequen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ESTs, Unige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G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hysical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anscriptome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Pathw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6019920" y="1905120"/>
            <a:ext cx="22096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GERM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Cultiv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Pedigre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5334120" y="5029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BREE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3352680" y="1447920"/>
            <a:ext cx="221004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Functional 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lle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henotyp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Geno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ersity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371600" y="2286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Data to be integrated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Group 21"/>
          <p:cNvGrpSpPr/>
          <p:nvPr/>
        </p:nvGrpSpPr>
        <p:grpSpPr>
          <a:xfrm>
            <a:off x="533520" y="4572000"/>
            <a:ext cx="3581280" cy="1752480"/>
            <a:chOff x="533520" y="4572000"/>
            <a:chExt cx="3581280" cy="1752480"/>
          </a:xfrm>
        </p:grpSpPr>
        <p:sp>
          <p:nvSpPr>
            <p:cNvPr id="78" name="Rectangle 4"/>
            <p:cNvSpPr/>
            <p:nvPr/>
          </p:nvSpPr>
          <p:spPr>
            <a:xfrm>
              <a:off x="533520" y="4572000"/>
              <a:ext cx="3276720" cy="17524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3048120" y="5943600"/>
              <a:ext cx="1066680" cy="3808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" name="TextBox 12"/>
          <p:cNvSpPr/>
          <p:nvPr/>
        </p:nvSpPr>
        <p:spPr>
          <a:xfrm>
            <a:off x="533520" y="4724280"/>
            <a:ext cx="32763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GENE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oc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Gene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/MTL/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QT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rker Lo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netic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036d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914400" y="457200"/>
            <a:ext cx="7607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Plan for Building an Efficient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1371600" y="5029200"/>
            <a:ext cx="6535800" cy="1139760"/>
            <a:chOff x="1371600" y="5029200"/>
            <a:chExt cx="6535800" cy="1139760"/>
          </a:xfrm>
        </p:grpSpPr>
        <p:sp>
          <p:nvSpPr>
            <p:cNvPr id="84" name="Rectangle 104"/>
            <p:cNvSpPr/>
            <p:nvPr/>
          </p:nvSpPr>
          <p:spPr>
            <a:xfrm>
              <a:off x="1371600" y="5715000"/>
              <a:ext cx="653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ic Database schem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AutoShape 105"/>
            <p:cNvSpPr/>
            <p:nvPr/>
          </p:nvSpPr>
          <p:spPr>
            <a:xfrm>
              <a:off x="3962520" y="5029200"/>
              <a:ext cx="12952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ahoma"/>
                </a:rPr>
                <a:t>Chad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" name="Group 17"/>
          <p:cNvGrpSpPr/>
          <p:nvPr/>
        </p:nvGrpSpPr>
        <p:grpSpPr>
          <a:xfrm>
            <a:off x="1295280" y="1828800"/>
            <a:ext cx="6732720" cy="1252080"/>
            <a:chOff x="1295280" y="1828800"/>
            <a:chExt cx="6732720" cy="1252080"/>
          </a:xfrm>
        </p:grpSpPr>
        <p:sp>
          <p:nvSpPr>
            <p:cNvPr id="87" name="Text Box 108"/>
            <p:cNvSpPr/>
            <p:nvPr/>
          </p:nvSpPr>
          <p:spPr>
            <a:xfrm>
              <a:off x="1295280" y="2438280"/>
              <a:ext cx="67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tent Management Syste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8" name="Picture 117" descr="drupal-logo"/>
            <p:cNvPicPr/>
            <p:nvPr/>
          </p:nvPicPr>
          <p:blipFill>
            <a:blip r:embed="rId1"/>
            <a:stretch/>
          </p:blipFill>
          <p:spPr>
            <a:xfrm>
              <a:off x="3886200" y="1828800"/>
              <a:ext cx="135396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22"/>
          <p:cNvGrpSpPr/>
          <p:nvPr/>
        </p:nvGrpSpPr>
        <p:grpSpPr>
          <a:xfrm>
            <a:off x="1371600" y="3048120"/>
            <a:ext cx="6993000" cy="1914120"/>
            <a:chOff x="1371600" y="3048120"/>
            <a:chExt cx="6993000" cy="1914120"/>
          </a:xfrm>
        </p:grpSpPr>
        <p:grpSp>
          <p:nvGrpSpPr>
            <p:cNvPr id="90" name="Group 19"/>
            <p:cNvGrpSpPr/>
            <p:nvPr/>
          </p:nvGrpSpPr>
          <p:grpSpPr>
            <a:xfrm>
              <a:off x="1371600" y="3505320"/>
              <a:ext cx="6993000" cy="1456920"/>
              <a:chOff x="1371600" y="3505320"/>
              <a:chExt cx="6993000" cy="1456920"/>
            </a:xfrm>
          </p:grpSpPr>
          <p:grpSp>
            <p:nvGrpSpPr>
              <p:cNvPr id="91" name="Group 15"/>
              <p:cNvGrpSpPr/>
              <p:nvPr/>
            </p:nvGrpSpPr>
            <p:grpSpPr>
              <a:xfrm>
                <a:off x="1371600" y="3505320"/>
                <a:ext cx="6993000" cy="978120"/>
                <a:chOff x="1371600" y="3505320"/>
                <a:chExt cx="6993000" cy="978120"/>
              </a:xfrm>
            </p:grpSpPr>
            <p:pic>
              <p:nvPicPr>
                <p:cNvPr id="92" name="Picture 106" descr="200px-TripalLogo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09880" y="3505320"/>
                  <a:ext cx="1363680" cy="60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Text Box 112"/>
                <p:cNvSpPr/>
                <p:nvPr/>
              </p:nvSpPr>
              <p:spPr>
                <a:xfrm>
                  <a:off x="1371600" y="4115160"/>
                  <a:ext cx="699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rupal modules as web front-end for Ch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4" name="Line 118"/>
              <p:cNvSpPr/>
              <p:nvPr/>
            </p:nvSpPr>
            <p:spPr>
              <a:xfrm flipV="1">
                <a:off x="4572000" y="4571640"/>
                <a:ext cx="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" name="Line 119"/>
            <p:cNvSpPr/>
            <p:nvPr/>
          </p:nvSpPr>
          <p:spPr>
            <a:xfrm flipV="1">
              <a:off x="4495680" y="3048120"/>
              <a:ext cx="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" name="Group 21"/>
          <p:cNvGrpSpPr/>
          <p:nvPr/>
        </p:nvGrpSpPr>
        <p:grpSpPr>
          <a:xfrm>
            <a:off x="5943600" y="3352680"/>
            <a:ext cx="2438280" cy="885600"/>
            <a:chOff x="5943600" y="3352680"/>
            <a:chExt cx="2438280" cy="885600"/>
          </a:xfrm>
        </p:grpSpPr>
        <p:sp>
          <p:nvSpPr>
            <p:cNvPr id="97" name="Text Box 25"/>
            <p:cNvSpPr/>
            <p:nvPr/>
          </p:nvSpPr>
          <p:spPr>
            <a:xfrm>
              <a:off x="6095880" y="3504960"/>
              <a:ext cx="2133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mo by Stephen Fickli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 13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(Tue) 2:30 p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Oval Callout 30"/>
            <p:cNvSpPr/>
            <p:nvPr/>
          </p:nvSpPr>
          <p:spPr>
            <a:xfrm>
              <a:off x="5943600" y="3352680"/>
              <a:ext cx="2438280" cy="762120"/>
            </a:xfrm>
            <a:prstGeom prst="wedgeEllipseCallout">
              <a:avLst>
                <a:gd name="adj1" fmla="val -77837"/>
                <a:gd name="adj2" fmla="val 20421"/>
              </a:avLst>
            </a:pr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990720" y="380880"/>
            <a:ext cx="7391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Advantages of using Drup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1440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Database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y to use and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functionality for community building – forums, calendars, project pages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Open Source,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popular, robust, secure and mod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/Roles/Acces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57200" y="380880"/>
            <a:ext cx="8381880" cy="6248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5" descr="GDRonlylogo.png"/>
          <p:cNvPicPr/>
          <p:nvPr/>
        </p:nvPicPr>
        <p:blipFill>
          <a:blip r:embed="rId1"/>
          <a:stretch/>
        </p:blipFill>
        <p:spPr>
          <a:xfrm>
            <a:off x="7467480" y="6095880"/>
            <a:ext cx="1219320" cy="419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37339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Users – control your own page/sit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You can create/edit pages and uploa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or meetings/conference/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or project/lab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s editors for gene, QTL, breeding data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ccess private data securely before pub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Editing a project p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562800" cy="366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7238880" cy="30290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8:10:13Z</dcterms:created>
  <dc:creator>Dorrie Main</dc:creator>
  <dc:description/>
  <dc:language>en-US</dc:language>
  <cp:lastModifiedBy>Sook</cp:lastModifiedBy>
  <dcterms:modified xsi:type="dcterms:W3CDTF">2010-01-26T18:10:17Z</dcterms:modified>
  <cp:revision>300</cp:revision>
  <dc:subject/>
  <dc:title>Slide 1</dc:title>
</cp:coreProperties>
</file>